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7787"/>
        <c:axId val="74345156"/>
      </c:barChart>
      <c:catAx>
        <c:axId val="8947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5156"/>
        <c:crosses val="autoZero"/>
        <c:auto val="1"/>
        <c:lblAlgn val="ctr"/>
        <c:lblOffset val="100"/>
        <c:noMultiLvlLbl val="0"/>
      </c:catAx>
      <c:valAx>
        <c:axId val="74345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7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9C7-1B59-4A6C-9776-463BD713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1E0-B0F4-484B-A47C-7B96E537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02C-711D-45FD-98CC-615B1124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F20-3918-4F25-A6E9-EF563AAB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9AA-22F5-4D6E-8C40-44901688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3D8-8C00-4F20-8A56-4A53901C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26A-FE27-40E3-A157-B02D1DF7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92D-DF5E-4281-AFF8-BD81FE9C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AD2-0DBC-40FE-B3D5-236FDE9D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2A4-9217-41C3-A5A0-75C0E47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16B-433F-458D-80E4-167C34ED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9BA-EC28-4A09-AF41-D5107BBB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90797-7497-4798-B985-01F89E8E99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