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91922"/>
        <c:axId val="71091144"/>
      </c:barChart>
      <c:catAx>
        <c:axId val="41191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91144"/>
        <c:crosses val="autoZero"/>
        <c:auto val="1"/>
        <c:lblAlgn val="ctr"/>
        <c:lblOffset val="100"/>
        <c:noMultiLvlLbl val="0"/>
      </c:catAx>
      <c:valAx>
        <c:axId val="71091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91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5A5-73D5-47F2-949E-894C4606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C53-EC5C-4400-AD1F-3676BC74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13E-39A4-4867-AD58-F93D90EB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5A8-D427-49E0-9744-BDAB9220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BC0-78F4-4960-BB36-248593C0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617-3344-4379-B635-4721BD12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82C-BE9F-486F-B91A-275BA47F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7EA-62E0-49B2-9A95-FF46B9A0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0B1-4D57-418C-9DCB-F6649F36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749-E45D-461C-90B0-D6B5938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313-B348-4CD1-B9B5-90BED8DD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17B-B181-4C13-9D10-805D3893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B95A0-B4E4-4F88-8129-2CC19184FD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