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89510"/>
        <c:axId val="70997529"/>
      </c:barChart>
      <c:catAx>
        <c:axId val="737895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97529"/>
        <c:crosses val="autoZero"/>
        <c:auto val="1"/>
        <c:lblAlgn val="ctr"/>
        <c:lblOffset val="100"/>
        <c:noMultiLvlLbl val="0"/>
      </c:catAx>
      <c:valAx>
        <c:axId val="709975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895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1BA-80B5-4527-9AA4-A0BE88A1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497-80C0-438A-A733-E8B1D8CF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D2A1-1578-4195-ADEF-75981D6C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B5E-6AC2-4112-893A-94C97569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6ABA-5E57-4930-A159-132FF088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09B1-7345-4359-8ED8-4885B64C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47E-E87D-46D8-B802-96087A90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2A8-879A-4E9F-B804-977C9045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0404-3B8A-42AB-B8A1-96C4CFF0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991-4A4A-4403-A759-8DD930E4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DFC-B739-41F8-BA8A-FA0D767F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8C9-30E0-4F2F-A6CB-4D9C37C4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B5A15-9222-42F2-B5CF-81E3AEDAC4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